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118FD-2195-405F-B4CF-0B673AAF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8FDE6-0548-430B-B6D9-AC50D1CF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2378C-C608-4FA7-8962-D4EF3F5F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3435-A968-40BC-A151-CEDD08BC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FBFF-EB6E-4164-826D-38179135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468B-1EEB-453B-96E7-D7C8F985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9AF7-1AA2-4624-9137-5D23261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7303-AF42-4804-B590-C6087255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3A8C-66FD-4DCA-B4E5-8D523F23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8C63-D1AC-4F1A-83A9-F7398AA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1965-3C54-444C-B4B0-8028CE8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E766D-DC29-4A8D-9C16-A4DFCE17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BD462-65A3-4762-A633-D4E3132F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4B94-B8B3-4B6F-9A24-1C9F6266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0C06-2125-4854-8A9D-D91333BC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BBCC-58DB-45F9-ADDB-7A77B975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DBD3-9CDF-47D6-A9DD-7AB62E8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43512-E799-49BB-9DAD-0DAEC56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DCA0-A8E2-4CB3-80E1-26C0BA55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F541F-B043-4EB1-A98C-3B05069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AC3CC-4892-4A01-9EC7-460A47A4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6B6D-FEAA-4B83-A97D-2462DFB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9F75A-1D1D-42DB-AF29-24386015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CAC0-BDC7-4773-8CC8-84F45F02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88EF-1FC7-4031-97B2-DCBB0D1B7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3AD-5E36-4552-A53F-98A7407700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5640" y="1752480"/>
            <a:ext cx="6172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PTER 2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TER SUPPLY, USE AND MANAG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re do we get our water from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roundwater and str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where su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seeps down into ground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surface of groundwa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Su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Most water evaporates (6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Rain and runoff patterns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uge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 / Ca S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acre foot = 326,000 gallons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g use per pers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ndwater is stored in Aquif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orldw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y provi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If more removed than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d  by inflow get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allala Aqui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419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t irrigation area in Western Hemi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harged by rainwater/snowme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plains = semi-arid (minimal recha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gallala Aqui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s: U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Better water conservation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Biggest us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lectricity gener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rrig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ndus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Public and 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mprove agricultural irrig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Encourage domestic conse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 Encourage more water recycling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us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315200" cy="5562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alton S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alton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ma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ton Sea: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36576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g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229440" y="6400800"/>
            <a:ext cx="445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52280" y="228600"/>
            <a:ext cx="1478160" cy="213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Aral Sea is drying up and dying as a result of diversion of water for agricul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8975880" cy="536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5800" y="55627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th Aral Sea being restored slowly, South Sea abandoned, poorer country (Uzbekistan) predicted to be totally dry in 15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 Lake, Califor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o L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California"/>
          <p:cNvPicPr/>
          <p:nvPr/>
        </p:nvPicPr>
        <p:blipFill>
          <a:blip r:embed="rId1"/>
          <a:stretch/>
        </p:blipFill>
        <p:spPr>
          <a:xfrm>
            <a:off x="123840" y="46080"/>
            <a:ext cx="604836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STAINAB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WATER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practic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stainab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llow growth and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society without degra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logic  cycle or 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gricul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65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Water mgm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nd the enviro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Transporting water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age and a way to m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ams, river modification, wet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amation must all be re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Must consider all views; far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ermen, environmentalists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086600" cy="35049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295280" y="3962520"/>
            <a:ext cx="6477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ost wetlands lost in past were due to agricultu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heaviest loss was between 1950 and 1975 where a half million acres were drained each y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Most wetlands lost today are due to develop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tland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1680" y="390600"/>
            <a:ext cx="5735520" cy="6188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7120" y="5691240"/>
            <a:ext cx="3051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cal Supplie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ndwater &amp; Recycling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36000" y="4556160"/>
            <a:ext cx="2506320" cy="1714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033" y="14253"/>
                </a:moveTo>
                <a:arcTo wR="10800" hR="10800" stAng="1118793" swAng="3862922"/>
                <a:lnTo>
                  <a:pt x="10800" y="10800"/>
                </a:lnTo>
                <a:close/>
              </a:path>
              <a:path fill="none" w="21600" h="21600">
                <a:moveTo>
                  <a:pt x="21033" y="14253"/>
                </a:moveTo>
                <a:arcTo wR="10800" hR="10800" stAng="1118793" swAng="3862922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533520"/>
            <a:ext cx="732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Southern Californi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s its Water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3520" y="2476440"/>
            <a:ext cx="2481120" cy="7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ocal Suppl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Aque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725920" y="3847680"/>
            <a:ext cx="4323960" cy="20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52"/>
                </a:moveTo>
                <a:arcTo wR="10800" hR="10800" stAng="-15381" swAng="4181790"/>
                <a:lnTo>
                  <a:pt x="10800" y="10800"/>
                </a:lnTo>
                <a:close/>
              </a:path>
              <a:path fill="none" w="21600" h="21600">
                <a:moveTo>
                  <a:pt x="21600" y="10752"/>
                </a:moveTo>
                <a:arcTo wR="10800" hR="10800" stAng="-15381" swAng="4181790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11040" y="5715000"/>
            <a:ext cx="220716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nservation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532400" y="4977000"/>
            <a:ext cx="2507400" cy="1304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593" y="15353"/>
                </a:moveTo>
                <a:arcTo wR="10800" hR="10800" stAng="1496147" swAng="6175383"/>
                <a:lnTo>
                  <a:pt x="10800" y="10800"/>
                </a:lnTo>
                <a:close/>
              </a:path>
              <a:path fill="none" w="21600" h="21600">
                <a:moveTo>
                  <a:pt x="20593" y="15353"/>
                </a:moveTo>
                <a:arcTo wR="10800" hR="10800" stAng="1496147" swAng="6175383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4650800">
            <a:off x="5459040" y="4939920"/>
            <a:ext cx="412920" cy="99684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8293200">
            <a:off x="2768760" y="3468240"/>
            <a:ext cx="939600" cy="170496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5882600">
            <a:off x="1931040" y="2005920"/>
            <a:ext cx="301680" cy="72864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6231800">
            <a:off x="4385880" y="5199120"/>
            <a:ext cx="301680" cy="412560"/>
          </a:xfrm>
          <a:prstGeom prst="ellipse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24160" y="3543480"/>
            <a:ext cx="11412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5181480"/>
            <a:ext cx="11448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9720" y="5638680"/>
            <a:ext cx="11412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5486400"/>
            <a:ext cx="114480" cy="11448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651640"/>
            <a:ext cx="11412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5791320"/>
            <a:ext cx="114480" cy="114120"/>
          </a:xfrm>
          <a:prstGeom prst="ellipse">
            <a:avLst/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38760" y="3808440"/>
            <a:ext cx="25052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olorado River Aqueduc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657760" y="3952440"/>
            <a:ext cx="2532960" cy="276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62" y="414"/>
                </a:moveTo>
                <a:arcTo wR="10800" hR="10800" stAng="-4444944" swAng="4444944"/>
                <a:lnTo>
                  <a:pt x="10800" y="10800"/>
                </a:lnTo>
                <a:close/>
              </a:path>
              <a:path fill="none" w="21600" h="21600">
                <a:moveTo>
                  <a:pt x="13762" y="414"/>
                </a:moveTo>
                <a:arcTo wR="10800" hR="10800" stAng="-4444944" swAng="4444944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880" y="4205160"/>
            <a:ext cx="18489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WP  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ntitlement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1520" y="1677960"/>
            <a:ext cx="3581280" cy="3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Transfers &amp; Storag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 rot="16200000">
            <a:off x="1472040" y="3261240"/>
            <a:ext cx="4935960" cy="2095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66"/>
                </a:moveTo>
                <a:arcTo wR="10800" hR="10800" stAng="212272" swAng="4140813"/>
                <a:lnTo>
                  <a:pt x="10800" y="10800"/>
                </a:lnTo>
                <a:close/>
              </a:path>
              <a:path fill="none" w="21600" h="21600">
                <a:moveTo>
                  <a:pt x="21579" y="11466"/>
                </a:moveTo>
                <a:arcTo wR="10800" hR="10800" stAng="212272" swAng="4140813"/>
              </a:path>
            </a:pathLst>
          </a:custGeom>
          <a:noFill/>
          <a:ln cap="rnd" w="50760">
            <a:solidFill>
              <a:srgbClr val="ffffff"/>
            </a:solidFill>
            <a:miter/>
            <a:tailEnd len="lg" type="stealth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05120" y="1576080"/>
            <a:ext cx="1494720" cy="309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708" y="15098"/>
                </a:moveTo>
                <a:arcTo wR="10800" hR="10800" stAng="1407064" swAng="3574651"/>
                <a:lnTo>
                  <a:pt x="10800" y="10800"/>
                </a:lnTo>
                <a:close/>
              </a:path>
              <a:path fill="none" w="21600" h="21600">
                <a:moveTo>
                  <a:pt x="20708" y="15098"/>
                </a:moveTo>
                <a:arcTo wR="10800" hR="10800" stAng="1407064" swAng="3574651"/>
              </a:path>
            </a:pathLst>
          </a:custGeom>
          <a:noFill/>
          <a:ln cap="rnd" w="50760">
            <a:solidFill>
              <a:srgbClr val="ffffff"/>
            </a:solidFill>
            <a:miter/>
            <a:headEnd len="med" type="triangle" w="med"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653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38052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D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enefits an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be multifunc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vironment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324480" y="15228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ardar Sarovar Dam,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6640" y="1981080"/>
            <a:ext cx="7469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924680" cy="4952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09680" y="2286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 Gorges Dam in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9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als and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angerous; drow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borne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nelization = Widening, deepen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traightening of natural chann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Photo of California Aqueduct"/>
          <p:cNvPicPr/>
          <p:nvPr/>
        </p:nvPicPr>
        <p:blipFill>
          <a:blip r:embed="rId1"/>
          <a:stretch/>
        </p:blipFill>
        <p:spPr>
          <a:xfrm>
            <a:off x="914400" y="3352680"/>
            <a:ext cx="7467480" cy="27432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590920" y="6095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ifornia Aque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543800" cy="42670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6840" y="1980720"/>
            <a:ext cx="4033800" cy="18716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56840" y="3995280"/>
            <a:ext cx="4033800" cy="18716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4652640" y="1980720"/>
            <a:ext cx="4033800" cy="38862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 Periodic flooding is healt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 Problem is if people build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 flood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 W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is im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groundwater from North and Central OC (small amt. recycled waste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019920" y="640080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228600"/>
            <a:ext cx="5181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0.23  The Colorado River bas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3880" y="803160"/>
            <a:ext cx="624852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 of the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22 law initiated (7states agreed how to share the river’s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based on higher flow rate (16 million a.f. annu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 – ring studies show severe droughts have existed in 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rought started in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ervoirs projected to be possibly dry within 11 - 19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12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Glob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Get % from text (remember dem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available runoff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acce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use incre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to go beyo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availability by 202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019920" y="637524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142920"/>
            <a:ext cx="380988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ndwater and surface water flow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334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638680" y="1522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w onto QS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 and provide function of each on your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where ground water se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to surface  (ie: springs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ver groundwater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ed at a useful rate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s fed by rai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ams fed by groundwater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21:54:56Z</dcterms:created>
  <dc:creator>Amy Chan</dc:creator>
  <dc:description/>
  <dc:language>en-US</dc:language>
  <cp:lastModifiedBy>tosborne</cp:lastModifiedBy>
  <cp:lastPrinted>2002-11-08T17:22:22Z</cp:lastPrinted>
  <dcterms:modified xsi:type="dcterms:W3CDTF">2011-02-22T23:00:49Z</dcterms:modified>
  <cp:revision>45</cp:revision>
  <dc:subject/>
  <dc:title>CHAPTER 19 WATER SUPPLY, USE AND MANAGEMENT</dc:title>
</cp:coreProperties>
</file>